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CC81-3C00-49D4-8141-CF99E03CD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E425-3982-415F-8AA5-2C2F9B841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led to important political and military clashes…challenge for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8B1D-4B71-4D2D-85C6-C7D9ABCBF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head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mai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:  14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zed what is now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 as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death to anyone who does not co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im the Grim did the same to Shi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in Ottom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1119-67D8-46F2-8560-5C613858B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ese artisans brought, collaboration gave rise to fabulous artwork, rebuild capital city of Isfan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:  local craft to nationa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8F16-792A-4357-B481-CD11BD1E9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ing family members to keep another from claim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al armies from Afghanistan taking over E portions of Safavid realm, Ottomans from the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ir Shah Afshar: 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7E4B-09AC-428B-B927-702CD6AD7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pta collapse, Arabs invasion, Muslim tribes from Asia, rulers Raj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area Mug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EC3F-1691-4419-A010-3E033C34E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dson of Babur:  Ak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86B5-41BC-48B1-B1DC-5EC40AB0E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 Jahan: Persian princess with variety of inte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lliant politician who understood use of power, religious problem with 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khs:  blending of Hinduism, Buddhism and Sufism (Islamic mystic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 Jahan:  two loves, wife and architecture; when wife died, giving birth to their 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hild, ordered building of tomb:  Taj Mah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3597-5564-42BA-8560-BD66CEB0D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an was militaristic, used cannons, walled cities… fought against Seljuks… was a gha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739-7F0C-46A7-95DE-BB35DDB9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62D-B827-4C09-A06C-402E1A85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7F5-CA34-4086-B2B8-0342EB0C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7BE-46EC-4BB5-BCFB-54495E38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7F98-DC8A-4570-A1D4-CECF328D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3FC3-C9BE-4323-9B88-2F173300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15DE-0150-41D5-B4CA-1829DAA3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D935-4E43-4034-9078-7C63C6D7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657B-61E1-423E-BB6B-CAF3D2B1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0FD9-6DD5-417A-9C91-3DA6FE71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3443-F77A-44DA-9E49-43096AB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338-9583-4F9A-A404-B5AE586B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15E3-37BF-444F-9F03-FB7E69F3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53BA-7930-4583-BFF0-B76ED8B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4BAB-6F99-461F-A1C0-580140AF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EB42-1794-4A95-8D6F-5D2397ED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89E1-ADE4-4BA5-904B-2B69B1A1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C92-1CA4-4191-89AA-598DA35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9C8-B2FF-428A-8F07-8BF0246C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9E4-E2AD-463D-9E10-4FEA6E72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E87-B601-4DC6-850A-FCDA97F3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C76-0C21-4C51-AEA1-BC81C0FA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857-35D2-41B4-9ADB-4E79C219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8E7-90B9-4F13-88F9-71DE2AA0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B1F5-7D2D-46F9-82E1-4CD294EAC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CB7E-6123-403F-8BF2-EA883455E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he Gunpowder Empires 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(1400-1800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madic Invasions by Mongols led to changes in the Muslim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ceylon gunpowder green tea"/>
          <p:cNvPicPr/>
          <p:nvPr/>
        </p:nvPicPr>
        <p:blipFill>
          <a:blip r:embed="rId1"/>
          <a:stretch/>
        </p:blipFill>
        <p:spPr>
          <a:xfrm>
            <a:off x="1447920" y="2819520"/>
            <a:ext cx="3195360" cy="3762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334120" y="3200400"/>
            <a:ext cx="2971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ghal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tom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fav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– strong warrior, 1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ite Islam as state religion in Iran - no religious free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tomans and Safavids disagree on religious tole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mai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destroys Baghdad and kills Sun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nnis kill Shiites in Ottoman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le/conques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lden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7" descr="33 Bridges, Esfahan, Iran"/>
          <p:cNvPicPr/>
          <p:nvPr/>
        </p:nvPicPr>
        <p:blipFill>
          <a:blip r:embed="rId1"/>
          <a:stretch/>
        </p:blipFill>
        <p:spPr>
          <a:xfrm>
            <a:off x="6934320" y="2133720"/>
            <a:ext cx="1854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Golden Age of Shah Abbas:  1587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14440" y="1676520"/>
            <a:ext cx="48006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ltural blending w/Ottoman, Persian &amp; Arab wor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a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 w/Europe &amp; Ch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an carp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 reforms (Persian &amp; Christian armies cre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weapon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shed corruption, emphasized loya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1003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ISFAH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4771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48320" y="38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Dec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3048120"/>
            <a:ext cx="784872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etent l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sant dis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al armies from Afghanistan taking ove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ni family took control, but was un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avids died politically, but never culturally - left behind a strong Persian cultural leg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Safavid fortress and village, Bam, Iran"/>
          <p:cNvPicPr/>
          <p:nvPr/>
        </p:nvPicPr>
        <p:blipFill>
          <a:blip r:embed="rId1"/>
          <a:stretch/>
        </p:blipFill>
        <p:spPr>
          <a:xfrm>
            <a:off x="4952880" y="1600200"/>
            <a:ext cx="3330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MUGHAL EMPIRE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(1526-1707)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960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ghals 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gol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lims in India since 7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hi Sulta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98: Tamerlane inv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nic &amp; religious conflic fo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6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b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nds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34800" y="17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Map of India"/>
          <p:cNvPicPr/>
          <p:nvPr/>
        </p:nvPicPr>
        <p:blipFill>
          <a:blip r:embed="rId1"/>
          <a:stretch/>
        </p:blipFill>
        <p:spPr>
          <a:xfrm>
            <a:off x="5486400" y="2133720"/>
            <a:ext cx="30369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Golden Age of Akbar: 1556-1605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akbar"/>
          <p:cNvPicPr/>
          <p:nvPr/>
        </p:nvPicPr>
        <p:blipFill>
          <a:blip r:embed="rId1"/>
          <a:stretch/>
        </p:blipFill>
        <p:spPr>
          <a:xfrm>
            <a:off x="5950080" y="1371600"/>
            <a:ext cx="2736720" cy="3762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5908680" y="5365800"/>
            <a:ext cx="28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quest of 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npow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jput offi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819520" y="3705120"/>
            <a:ext cx="304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igious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eaucracy included diverse offi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ba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1066680" y="525780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ir t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sh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iz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d income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90720" y="1600200"/>
            <a:ext cx="392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ltural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atur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bar perio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ry achie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UGHAL EXPAN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94360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After Akba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611-1622: Jahangir &amp; Nur Ja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ss religious toler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ghals v. Sik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628-1658: Shah Ja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ted political com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aj Mah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658-1707: Aurangz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litary leader and empire buil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press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forced Islamic la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raged Hind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484960" y="1143000"/>
            <a:ext cx="320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Dec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40880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jputs rebe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s for conquest cost $$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loyalty to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ened central state, power of local lords g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ed in a patchwork of independen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with Europeans - Indi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next conque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Comparative Analysi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the similarities and differences between two of the following Gunpowder Empires during the years from 1450-175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gha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to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fav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963720" y="685800"/>
            <a:ext cx="7824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CONTEXT: </a:t>
            </a:r>
            <a:br>
              <a:rPr sz="3600"/>
            </a:b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How can we characterize this period in world history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tween ancient &amp; early modern hist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lamic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wer shi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Arab Muslims to ethnically Turkic Musli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of gunpowder &amp; other new technologies fo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nquest (</a:t>
            </a:r>
            <a:r>
              <a:rPr b="1" lang="ja-JP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unpowder empires</a:t>
            </a:r>
            <a:r>
              <a:rPr b="1" lang="ja-JP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ltural, artistic, &amp; architectural developm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ill impact regions conqu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7720" y="3808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toman Empire at Greatest Extent c. 169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028" descr="expansionmap.gif (45254 bytes)"/>
          <p:cNvPicPr/>
          <p:nvPr/>
        </p:nvPicPr>
        <p:blipFill>
          <a:blip r:embed="rId1"/>
          <a:stretch/>
        </p:blipFill>
        <p:spPr>
          <a:xfrm>
            <a:off x="990720" y="990720"/>
            <a:ext cx="77086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OTTOMAN EMPIRE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(1281-1922)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st lasting &amp; most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1: fou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m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haz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rul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lims required to do militar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Muslims pai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iz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quered peoples generally treated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554800" y="2133720"/>
            <a:ext cx="3003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CONQUEST OF CONSTANTINOPL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hmet II conquers Constantinople in 14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gia So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6483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221304"/>
                </a:solidFill>
                <a:latin typeface="Times New Roman"/>
              </a:rPr>
              <a:t>Golden Age of Suleiman</a:t>
            </a:r>
            <a:br>
              <a:rPr sz="3300"/>
            </a:br>
            <a:r>
              <a:rPr b="1" lang="en-US" sz="3300" spc="-1" strike="noStrike">
                <a:solidFill>
                  <a:srgbClr val="221304"/>
                </a:solidFill>
                <a:latin typeface="Times New Roman"/>
              </a:rPr>
              <a:t>1520-1566</a:t>
            </a:r>
            <a:endParaRPr b="0" lang="en-US" sz="33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05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quest of Europe (stopped @ Vien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al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ureau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anissa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vshi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ll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09880" y="3505320"/>
            <a:ext cx="3353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ltural Achie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ia, religious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taxation/bureaucra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que of Sule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ending of Turkish artistic styles with those of conquered peo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051680" y="3429000"/>
            <a:ext cx="1711440" cy="266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5638680" y="404640"/>
            <a:ext cx="30862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Dec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apable leaders fearful of los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ressive policies &amp; taxatio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asant discontent and rebe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decline - illegal trade,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al power defeated in Spain and Italy (Battle of Lepanto - 157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olved with the creation of the nation of Turkey in 1923, after World War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SAFAVID EMPIRE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(1501-1722)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3760" y="1828800"/>
            <a:ext cx="36226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f al-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oun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ani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ite Is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ecuted on religious grounds by Ottoman Sunni Musl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army to protect themselves on both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Safavids"/>
          <p:cNvPicPr/>
          <p:nvPr/>
        </p:nvPicPr>
        <p:blipFill>
          <a:blip r:embed="rId1"/>
          <a:stretch/>
        </p:blipFill>
        <p:spPr>
          <a:xfrm>
            <a:off x="990720" y="2209680"/>
            <a:ext cx="43606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20:18:21Z</dcterms:created>
  <dc:creator>Julie Ann Graham</dc:creator>
  <dc:description/>
  <dc:language>en-US</dc:language>
  <cp:lastModifiedBy>Filie, Steven</cp:lastModifiedBy>
  <cp:lastPrinted>2005-11-01T19:45:21Z</cp:lastPrinted>
  <dcterms:modified xsi:type="dcterms:W3CDTF">2016-01-05T14:27:07Z</dcterms:modified>
  <cp:revision>101</cp:revision>
  <dc:subject/>
  <dc:title>The Gunpowder Empires (1400-1800)</dc:title>
</cp:coreProperties>
</file>